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4FE8-C8D1-4905-9E12-17DA5748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EE2C-E325-4B7F-AEFF-95C94761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F28A-DE57-4F77-B843-4D2506C5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27B3-1FB9-4160-BF2B-B845A334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2455-B27F-49FC-B883-E69378D25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ADD5-101D-4E5D-AA98-6AD5E16F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BAE5-EC24-49DB-A812-41C53F2F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C9CC-A04E-44AF-A645-2E1DF069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980D-780B-4C93-AB9E-05284A66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2F7C-5DED-4B8B-89ED-13E4AE55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FB83-D39E-40CE-8FC5-A0403D69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A720-0F3C-4FD7-998D-B8E0C0BF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0465-C148-4CC6-93D7-E2D3447B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37A5-7619-4025-82E3-B26F24D7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0A21-27E0-4694-97B8-A738ECDA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1B03-69B4-4040-9573-BABED6316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D4C0-EB0D-4979-A283-150AFA4D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B742-14DE-46AA-9CAF-9382B06A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4CD8-CBC8-48E0-87FA-6A6A8975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810D-2B98-4317-A26E-0B04F350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DDBD-8025-48E5-895C-AEB32F7B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A702-E9D7-4042-8247-473812CD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2498-A577-487B-A5ED-C5B47741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C5CF-75D4-4B79-A9DE-52DAF61E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86BB-74BA-4242-BF73-BEFA314F1B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C82B-4B16-4F31-95CE-758ECF55CC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en.wikipedia.org/wiki/Image:Staphylococcus_epidermidis_01.png" TargetMode="External"/><Relationship Id="rId3" Type="http://schemas.openxmlformats.org/officeDocument/2006/relationships/image" Target="../media/image9.png"/><Relationship Id="rId4" Type="http://schemas.openxmlformats.org/officeDocument/2006/relationships/hyperlink" Target="http://en.wikipedia.org/wiki/Staphylococcus_epidermidis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www2.niaid.nih.gov/Biodefense/Public/Images.htm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medinfo.ufl.edu/year2/mmid/bms5300/bugs/saltyphi.html" TargetMode="External"/><Relationship Id="rId3" Type="http://schemas.openxmlformats.org/officeDocument/2006/relationships/hyperlink" Target="http://medinfo.ufl.edu/year2/mmid/bms5300/bugs/saltyphi.html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www.kcom.edu/.../lectures/lecture/reairin2.htm" TargetMode="External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Bacteria and Food</a:t>
            </a: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6781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a is important in making foods such as milk, cheese &amp; yogu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wo names scientists assign to different types of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enus spec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treptococcus lac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imes these names can help us to find the shape of the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8120" y="304560"/>
            <a:ext cx="25905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Yogu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e A cultured nonfat mil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y protein concent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tobacillus acidophi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od starch mod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eptococcus salivari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r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400800" y="3200400"/>
            <a:ext cx="1771560" cy="2695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25120" y="125568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gredien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Lactobacillus acidophilu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2759040" cy="3048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08880" y="6171480"/>
            <a:ext cx="34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www.textbookofbacteriology.n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952880" y="2286000"/>
            <a:ext cx="2562480" cy="2260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11400" y="5791320"/>
            <a:ext cx="58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http://www.amalteatechnology.com/img/lactobacillus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treptococcus salivariu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2857680" cy="2714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85560" y="6172200"/>
            <a:ext cx="558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http://atchimiebiologie.free.fr/yaourt/streptococcus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905120"/>
            <a:ext cx="3448080" cy="2757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7120" y="58672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http://www.osel.cz/soubory/358/3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cillus subtili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ly found in s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9480" y="3517920"/>
            <a:ext cx="3581640" cy="2692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2763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aphylococcus epidermidi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ly found on your sk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4095720" cy="23241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34720" y="5334120"/>
            <a:ext cx="64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http://www.opt.pacificu.edu/ce/catalog/13036-AS/Fig%201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Scanning electron image of S. epidermidis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10080" y="3352680"/>
            <a:ext cx="2286000" cy="13431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65120" y="609516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en.wikipedia.org/wiki/Staphylococcus_epidermidis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Escherichia coli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ly found in waste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2120" y="2895480"/>
            <a:ext cx="3581280" cy="2686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29200" y="2895480"/>
            <a:ext cx="3200400" cy="2689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36560" y="5866560"/>
            <a:ext cx="53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www2.niaid.nih.gov/Biodefense/Public/Images.htm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Salmonella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Typhi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ly found in waste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2810160" cy="32004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45480" y="6019920"/>
            <a:ext cx="49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medinfo.ufl.edu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/.../bms5300/bugs/saltyphi.html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3962520" y="2819520"/>
            <a:ext cx="3581280" cy="27381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62320" y="6323760"/>
            <a:ext cx="49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www.kcom.edu/.../lectures/lecture/reairin2.htm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Enterococcus faecalis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ly found in your intest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71600" y="3048120"/>
            <a:ext cx="2300400" cy="2324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34360" y="6095880"/>
            <a:ext cx="70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http://www.textbookofbacteriology.net/nfStreptococcus_mutans.jpe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105520" y="3124080"/>
            <a:ext cx="269064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02:00:32Z</dcterms:created>
  <dc:creator>Kayla Shirley</dc:creator>
  <dc:description/>
  <dc:language>en-US</dc:language>
  <cp:lastModifiedBy>Teacher</cp:lastModifiedBy>
  <dcterms:modified xsi:type="dcterms:W3CDTF">2007-01-11T14:30:05Z</dcterms:modified>
  <cp:revision>8</cp:revision>
  <dc:subject/>
  <dc:title>Bacteria and Food </dc:title>
</cp:coreProperties>
</file>